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CE03-FBDF-4B58-BDA0-6DF61834B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7200-6916-43E4-9E36-0D91F166C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6983-BDC3-4D2C-9105-D9D0980BD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FEF1-75A1-452E-97AF-28B6507C2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F624-E88F-46B1-8062-85B6073A7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B746-73C2-450B-AF5A-EF0A10B17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D9E9-DA8C-4C61-ABA3-F81D06A2A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AAA5-C182-4D4E-BC76-0EC6BC9E2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3D22-D915-447F-9D54-80C3AA068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6D28-A193-4986-8E8A-34A5201D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07D5-6233-47FC-8959-C41D4A51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7B67-F235-47D8-BC8F-BE8CA622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1D9B3-6EA7-45D6-8D79-18F39850CB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1752480"/>
            <a:ext cx="861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punerea de Plan de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868000" y="3886200"/>
            <a:ext cx="2606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rian MURES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giu MIH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.S.I. S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uj-Napoca, Branului no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120" y="5638680"/>
            <a:ext cx="643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ozion de diseminare a rezultate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mentul Sitului Natura 2000 – Saraturile – Ocna Ve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rda, 27 iulie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54864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556272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04920" y="30492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38088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360" y="0"/>
            <a:ext cx="6290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mpozion de diseminare a rezultatelor – Managementul Sitului Natura 2000 – Saraturile - Ocna Vec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845840" y="0"/>
            <a:ext cx="1346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Turda, 27 iulie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189320" y="457200"/>
            <a:ext cx="4954680" cy="64008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400" y="457200"/>
            <a:ext cx="375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tegorii de 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zandu-se categoriile de impa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152280" y="1676520"/>
            <a:ext cx="3133800" cy="2085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24640" y="3733920"/>
            <a:ext cx="168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orturi motoriz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2514600" y="3429000"/>
            <a:ext cx="2743200" cy="1828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352320" y="5257800"/>
            <a:ext cx="83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su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152280" y="4762440"/>
            <a:ext cx="2743200" cy="20955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49400" y="4419720"/>
            <a:ext cx="16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ozitari deseu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04920" y="30492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8088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-360" y="0"/>
            <a:ext cx="6290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mpozion de diseminare a rezultatelor – Managementul Sitului Natura 2000 – Saraturile - Ocna Vec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845840" y="0"/>
            <a:ext cx="1346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Turda, 27 iulie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440" y="457200"/>
            <a:ext cx="3445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ula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 de actiuni (matr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za de date format GIS/BI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30492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38088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60" y="0"/>
            <a:ext cx="593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mpozion de diseminare a rezultatelor – Managementul Sitului Natura 2000 – Saraturile - Ocna Vec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847280" y="0"/>
            <a:ext cx="129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Turda, 27 iulie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" y="380880"/>
            <a:ext cx="17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tura 2000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080" y="838080"/>
            <a:ext cx="850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erinta de aderare la 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odalitate de baza pentru conservarea biodiversitat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nditie pentru alocarea Fondurilor Structur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schide premisele pentru oportunitatile si conditiile de finantare UE pentru na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36240" y="2743200"/>
            <a:ext cx="403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unere &amp; Cointeresare financi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pas inai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30492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38088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40" y="380880"/>
            <a:ext cx="17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tura 2000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880" y="911160"/>
            <a:ext cx="90626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prezinta piesa centrala a politicilor europene dedicate protectiei naturii (biodiversitat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ranspunerea in practica a Directivelor 92/43; 79/4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prezinta zone de dezvoltare durabi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 parteneriat dintre comunitati si na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 reprezinta un angajament pe termen lung al 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 reflecta un plan de actiune (blueprint) pentru vi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mportant: Natura 2000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u este un sistem de arii naturale strict protejat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prezinta modele reale de dezvoltare durabil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Atena Groza – consilier personal al Ministrului: prezentarea “Natura 2000” – site-ul oficial al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WWF Romania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– wwf.panda.org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eminarul; “Oportunitati si constrangeri pentru companii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clararea siturilor Natura 2000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nu inseamna protectie stricta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permite promov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tivitatilor de dezvoltare durabila care sa permita conservare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Erika Stanciu – coordonator national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WWF Romania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– site-ul oficial al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WWF Romania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– wwf.panda.org, Seminarul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Oportunitati si constrangeri pentru companii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atura 2000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nu este un sistem de rezervatii natural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cu regim de conservare str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 unde toate activitatile umane sunt excluse. In unele cazuri, siturile pot incl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zervatii naturale, insa majoritatea terenului va continua sa fie detinut in m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ivat, tinta prioritara fiind aceea de a se asigura o gestiune durabila din punct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edere economic, social si ecolog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Memo on Commission strategy to protect Europe’s most important wildlife areas – frequently asked questions about Natura 2000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ttp://ec.europa.eu/environment/nature/info/pubs/docs/nat2000/2003_memo_natura.pd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60" y="0"/>
            <a:ext cx="593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mpozion de diseminare a rezultatelor – Managementul Sitului Natura 2000 – Saraturile - Ocna Vec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847280" y="0"/>
            <a:ext cx="129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Turda, 27 iulie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5334120"/>
            <a:ext cx="9144000" cy="380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30492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38088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" y="380880"/>
            <a:ext cx="17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tura 2000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280" y="798480"/>
            <a:ext cx="915372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ul de desemn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nind de la prevederile D.92/43, art. 4(1), a Anexei III, precum si asa cum se arata in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ture and Biodiversity Cases – Ru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f the European Court of Justi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Off. Publ. EC, 2006:3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buie fundamentat pe un set 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iterii stiinti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r criteriile de ordin stiintific pot conduce la alegerea siturilor de prop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iturile trebuie sa asigure o acoperire geografica omogena si reprezentativa a teritori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M, in vederea asigurarii coerentei. Lista va reflecta varietatea ecologic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sta trebuie sa fie completa ce sa asigure reprezentarea habitatelor si specii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riteri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rad de reprezentativitate pentru situl respect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uprafata relativa din sit raportata la suprafata nation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radul de conserv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tribute ale populatii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410080" y="4267080"/>
            <a:ext cx="1371600" cy="60984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36120" y="4114800"/>
            <a:ext cx="170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BIM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20" y="5334120"/>
            <a:ext cx="37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ultarea comunitatilor lo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60" y="0"/>
            <a:ext cx="593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mpozion de diseminare a rezultatelor – Managementul Sitului Natura 2000 – Saraturile - Ocna Vec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847280" y="0"/>
            <a:ext cx="129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Turda, 27 iulie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5334120"/>
            <a:ext cx="9144000" cy="380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30492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38088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" y="380880"/>
            <a:ext cx="17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tura 2000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280" y="798480"/>
            <a:ext cx="915372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ul de desemn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nind de la prevederile D.92/43, art. 4(1), a Anexei III, precum si asa cum se arata in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ture and Biodiversity Cases – Ru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f the European Court of Justi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Off. Publ. EC, 2006:3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buie fundamentat pe un set 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iterii stiinti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r criteriile de ordin stiintific pot conduce la alegerea siturilor de prop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iturile trebuie sa asigure o acoperire geografica omogena si reprezentativa a teritori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M, in vederea asigurarii coerentei. Lista va reflecta varietatea ecologic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sta trebuie sa fie completa ce sa asigure reprezentarea habitatelor si specii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riteri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rad de reprezentativitate pentru situl respect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uprafata relativa din sit raportata la suprafata nation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radul de conserv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tribute ale populatii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480" y="5218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267080"/>
            <a:ext cx="1371600" cy="60984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936120" y="4114800"/>
            <a:ext cx="170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BIM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20" y="5334120"/>
            <a:ext cx="37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ultarea comunitatilor lo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7010280" y="4114800"/>
            <a:ext cx="1447920" cy="762120"/>
          </a:xfrm>
          <a:prstGeom prst="line">
            <a:avLst/>
          </a:prstGeom>
          <a:ln w="254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60" y="0"/>
            <a:ext cx="593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mpozion de diseminare a rezultatelor – Managementul Sitului Natura 2000 – Saraturile - Ocna Vec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847280" y="0"/>
            <a:ext cx="129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Turda, 27 iulie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04920" y="30492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38088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-360" y="0"/>
            <a:ext cx="6290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mpozion de diseminare a rezultatelor – Managementul Sitului Natura 2000 – Saraturile - Ocna Vec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845840" y="0"/>
            <a:ext cx="1346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Turda, 27 iulie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280" y="457200"/>
            <a:ext cx="74955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ord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-a insistat pe elementele de fundamentare (geologie, flora si vegetati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rea categoriilor de impact (presiuni antrop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stiune responsabila – valorizarea patrimoniului nat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uneri de retrasare a limitelor si delimitarea unor zone inter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acterul adaptativ al 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dura de aviz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unere de modific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zbaterea modificarilor cu actorii implic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izare (ARPM/procedura SE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robare prin OM (forma initiala depusa la 20.12.201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04920" y="30492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38088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-360" y="0"/>
            <a:ext cx="6290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mpozion de diseminare a rezultatelor – Managementul Sitului Natura 2000 – Saraturile - Ocna Vec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845840" y="0"/>
            <a:ext cx="1346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Turda, 27 iulie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22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477120" y="457200"/>
          <a:ext cx="2419200" cy="2362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77120" y="457200"/>
                    <a:ext cx="24192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4680" y="457200"/>
            <a:ext cx="5730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emn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5/200: poz. 2.343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 (2 trupuri – fara delimita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M 1964/2007 ROSCI0223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M 2387/2011 ROSCI0223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G 971/2011 ROSPA Canepi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unere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152280" y="2190600"/>
            <a:ext cx="6324840" cy="44704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553080" y="2895480"/>
            <a:ext cx="2590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na de sigura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8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na de conservare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mentelor criteri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clee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04920" y="30492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38088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360" y="0"/>
            <a:ext cx="6290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mpozion de diseminare a rezultatelor – Managementul Sitului Natura 2000 – Saraturile - Ocna Vec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845840" y="0"/>
            <a:ext cx="1346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Turda, 27 iulie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1665360"/>
            <a:ext cx="6324480" cy="48877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6400800" y="1652760"/>
            <a:ext cx="2743200" cy="21193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6400800" y="3862440"/>
            <a:ext cx="2743200" cy="21207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60" y="457200"/>
            <a:ext cx="191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lize si stud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ument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tografie/G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04920" y="30492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38088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360" y="0"/>
            <a:ext cx="6290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mpozion de diseminare a rezultatelor – Managementul Sitului Natura 2000 – Saraturile - Ocna Vec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45840" y="0"/>
            <a:ext cx="1346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Turda, 27 iulie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240" y="457200"/>
            <a:ext cx="9227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liza elementelor criteri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30* Stepe si mlastini sarate panon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1522 (potenti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1526 (ce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1529 (potenti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1530 (ce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1532 (potenti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310 Comunitati cu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alicorni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alte specii anuale care populeaza regiunile mlastino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nisipo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esia longis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Liparis loesel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Serratula lycopifo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954680" y="762120"/>
            <a:ext cx="59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00"/>
                </a:solidFill>
                <a:latin typeface="Arial"/>
              </a:rPr>
              <a:t>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47920" y="3200400"/>
            <a:ext cx="685800" cy="60948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33720" y="3886200"/>
            <a:ext cx="685800" cy="60948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38280" y="4114800"/>
            <a:ext cx="685800" cy="60948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43200" y="4343400"/>
            <a:ext cx="685800" cy="60948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9T18:46:18Z</dcterms:created>
  <dc:creator>User</dc:creator>
  <dc:description/>
  <dc:language>en-US</dc:language>
  <cp:lastModifiedBy>User</cp:lastModifiedBy>
  <dcterms:modified xsi:type="dcterms:W3CDTF">2012-07-26T17:03:36Z</dcterms:modified>
  <cp:revision>19</cp:revision>
  <dc:subject/>
  <dc:title>Slide 1</dc:title>
</cp:coreProperties>
</file>