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B55-F170-469F-BC60-12127AA9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15C-6317-4EAA-A477-23EC9A76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357-8A32-4D60-A0CA-64B8CB4A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D61-D9E0-46E4-A308-09C4C141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535-32D0-4000-8B31-88F5D9E6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6C9-D229-4623-8379-166234FC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B92-C481-4886-88B8-A5FFA41A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7E4-5B1A-401C-8B21-EDDB164B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DFD-7691-42E6-82FC-E9569740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962-5845-47CD-9AB3-788D829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C24-9BEC-4043-9DB2-9337E906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849-246F-49EE-9312-DC501D4F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52A-A2A6-480D-91D8-E5AC8F489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7524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unerea de Plan d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8000" y="388620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rian MURE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giu MIH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I. S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uj-Napoca, Branului no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120" y="5638680"/>
            <a:ext cx="64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ozion de diseminare a rezulta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ul Sitului Natura 2000 – Saraturile – Ocna V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486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5627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89320" y="457200"/>
            <a:ext cx="4954680" cy="6400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00" y="4572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i de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ndu-se categoriile de imp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52280" y="1676520"/>
            <a:ext cx="3133800" cy="208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640" y="3733920"/>
            <a:ext cx="16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turi motori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514600" y="34290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52320" y="525780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u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52280" y="4762440"/>
            <a:ext cx="27432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9400" y="4419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ozitari dese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0" y="457200"/>
            <a:ext cx="344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de actiuni (mat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za de date format GIS/B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0" y="0"/>
            <a:ext cx="59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7280" y="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" y="380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 200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080" y="838080"/>
            <a:ext cx="850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rinta de aderare la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alitate de baza pentru conservarea biodiversita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ditie pentru alocarea Fondurilor Structu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hide premisele pentru oportunitatile si conditiile de finantare UE pentru 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6240" y="2743200"/>
            <a:ext cx="403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unere &amp; Cointeresare financi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as ina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" y="380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 200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80" y="911160"/>
            <a:ext cx="9062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rezinta piesa centrala a politicilor europene dedicate protectiei naturii (biodiversitat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punerea in practica a Directivelor 92/43; 79/4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rezinta zone de dezvoltare durab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arteneriat dintre comunitati si 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reprezinta un angajament pe termen lung al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reflecta un plan de actiune (blueprint) pentru vi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ortant: Natura 200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 este un sistem de arii naturale strict proteja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rezinta modele reale de dezvoltare durabil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tena Groza – consilier personal al Ministrului: prezentarea “Natura 2000” – site-ul oficial 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F Romani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– wwf.panda.or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minarul; “Oportunitati si constrangeri pentru companii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clararea siturilor Natura 2000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u inseamna protectie stric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ermite promov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tivitatilor de dezvoltare durabila care sa permita conservare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rika Stanciu – coordonator nation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F Romani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– site-ul oficial 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F Romani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– wwf.panda.org, Seminaru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ortunitati si constrangeri pentru companii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a 2000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u este un sistem de rezervatii natura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 regim de conservare 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unde toate activitatile umane sunt excluse. In unele cazuri, siturile pot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zervatii naturale, insa majoritatea terenului va continua sa fie detinut in 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vat, tinta prioritara fiind aceea de a se asigura o gestiune durabila din punc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dere economic, social si eco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Memo on Commission strategy to protect Europe’s most important wildlife areas – frequently asked questions about Natura 200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ec.europa.eu/environment/nature/info/pubs/docs/nat2000/2003_memo_natura.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0" y="0"/>
            <a:ext cx="59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7280" y="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334120"/>
            <a:ext cx="9144000" cy="380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" y="380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 200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280" y="798480"/>
            <a:ext cx="9153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ul de desem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nind de la prevederile D.92/43, art. 4(1), a Anexei III, precum si asa cum se arata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ure and Biodiversity Cases – R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European Court of Just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Off. Publ. EC, 2006: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uie fundamentat pe un set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erii stiinti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r criteriile de ordin stiintific pot conduce la alegerea siturilor de pr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turile trebuie sa asigure o acoperire geografica omogena si reprezentativa a teritori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, in vederea asigurarii coerentei. Lista va reflecta varietatea ecolog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a trebuie sa fie completa ce sa asigure reprezentarea habitatelor si spec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iteri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 de reprezentativitate pentru situl respec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rafata relativa din sit raportata la suprafata natio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ul de conser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ribute ale populat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4267080"/>
            <a:ext cx="1371600" cy="60984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6120" y="411480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" y="533412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area comunitati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0" y="0"/>
            <a:ext cx="59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7280" y="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34120"/>
            <a:ext cx="9144000" cy="380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380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 200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280" y="798480"/>
            <a:ext cx="9153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ul de desem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nind de la prevederile D.92/43, art. 4(1), a Anexei III, precum si asa cum se arata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ure and Biodiversity Cases – R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European Court of Just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Off. Publ. EC, 2006: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uie fundamentat pe un set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erii stiinti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r criteriile de ordin stiintific pot conduce la alegerea siturilor de pr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turile trebuie sa asigure o acoperire geografica omogena si reprezentativa a teritori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, in vederea asigurarii coerentei. Lista va reflecta varietatea ecolog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a trebuie sa fie completa ce sa asigure reprezentarea habitatelor si spec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iteri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 de reprezentativitate pentru situl respec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rafata relativa din sit raportata la suprafata natio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ul de conser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ribute ale populat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480" y="521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267080"/>
            <a:ext cx="1371600" cy="60984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6120" y="411480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" y="533412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area comunitati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10280" y="4114800"/>
            <a:ext cx="1447920" cy="76212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0" y="0"/>
            <a:ext cx="59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47280" y="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80" y="457200"/>
            <a:ext cx="749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d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a insistat pe elementele de fundamentare (geologie, flora si vegetat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rea categoriilor de impact (presiuni antrop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une responsabila – valorizarea patrimoniului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neri de retrasare a limitelor si delimitarea unor zone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ul adaptativ al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a de av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nere de modific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zbaterea modificarilor cu actorii impli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zare (ARPM/procedura S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bare prin OM (forma initiala depusa la 20.12.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477120" y="457200"/>
          <a:ext cx="24192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57200"/>
                    <a:ext cx="24192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680" y="457200"/>
            <a:ext cx="573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5/200: poz. 2.343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 (2 trupuri – fara delimit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1964/2007 ROSCI0223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2387/2011 ROSCI0223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 971/2011 ROSPA Canep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nere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280" y="2190600"/>
            <a:ext cx="6324840" cy="4470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553080" y="28954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e sigur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e conservar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elor crite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e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665360"/>
            <a:ext cx="6324480" cy="4887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00800" y="1652760"/>
            <a:ext cx="2743200" cy="211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00800" y="3862440"/>
            <a:ext cx="2743200" cy="2120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0" y="457200"/>
            <a:ext cx="19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e si stud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ografie/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240" y="457200"/>
            <a:ext cx="9227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a elementelor crite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0* Stepe si mlastini sarate pano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22 (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26 (c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29 (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30 (c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32 (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310 Comunitati c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icorn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alte specii anuale care populeaza regiunile mlastino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nisipo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esia longis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Liparis loese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Serratula lycopifo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4680" y="76212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200400"/>
            <a:ext cx="685800" cy="6094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886200"/>
            <a:ext cx="685800" cy="6094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4114800"/>
            <a:ext cx="685800" cy="6094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343400"/>
            <a:ext cx="685800" cy="6094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8:46:18Z</dcterms:created>
  <dc:creator>User</dc:creator>
  <dc:description/>
  <dc:language>en-US</dc:language>
  <cp:lastModifiedBy>User</cp:lastModifiedBy>
  <dcterms:modified xsi:type="dcterms:W3CDTF">2012-07-26T17:03:36Z</dcterms:modified>
  <cp:revision>19</cp:revision>
  <dc:subject/>
  <dc:title>Slide 1</dc:title>
</cp:coreProperties>
</file>