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878-3708-447D-BA0D-73835E7E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73D-94B1-4A35-861F-3E4D19F0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B71-DDC5-4DA6-9E86-8A0B31F9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8D7-1E85-435B-904D-873BFAB2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1F5E-0FFD-4E21-9472-8DDC9E1A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CE01-74C1-46DE-A3BB-D6810D5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3689-BBE0-4DD6-BCE5-B799FAD8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7CBD-52C5-4508-82DD-FC3F7A87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E4AB-A6C7-4B12-A195-812EE363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1F78-6050-41C8-9C14-2B2F962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3A7-3D00-4013-98CB-B208537B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387-AC8A-4076-ADF1-93F9D85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3215-6F4E-4256-966B-E423630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697F-ABE0-4878-B85F-BB487690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8251-1F6E-4B9E-9FBE-3660204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7A34-1A39-4724-BC6A-88BD61B9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E753-9909-40E8-A6D1-3A6A28DA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118-420C-463B-B6C5-6C48FDF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4C2-BE7F-43C2-B325-43AAF449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5D1-A4BB-4E1F-9685-DA671DB7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C78-8439-4ACF-8FED-38DEFA2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099-51C5-415F-8FC0-803FC6E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3F1-A743-4735-A53C-69D39E2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BEB-C855-4305-B378-EF1EBD2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AA6B-91E6-4410-9AF1-20DF5A3AA4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E43-4FFB-401F-98DA-54E350A8B9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6" descr="IMAG0009"/>
          <p:cNvPicPr/>
          <p:nvPr/>
        </p:nvPicPr>
        <p:blipFill>
          <a:blip r:embed="rId1"/>
          <a:stretch/>
        </p:blipFill>
        <p:spPr>
          <a:xfrm>
            <a:off x="71280" y="34920"/>
            <a:ext cx="9001440" cy="6751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87804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Lacuri antroposaline în </a:t>
            </a:r>
            <a:r>
              <a:rPr b="0" lang="en-US" sz="4800" spc="-1" strike="noStrike">
                <a:solidFill>
                  <a:srgbClr val="f0f000"/>
                </a:solidFill>
                <a:latin typeface="Times New Roman"/>
              </a:rPr>
              <a:t>Situl Natura 2000 S</a:t>
            </a: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f0f000"/>
                </a:solidFill>
                <a:latin typeface="Times New Roman"/>
              </a:rPr>
              <a:t>r</a:t>
            </a: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f0f000"/>
                </a:solidFill>
                <a:latin typeface="Times New Roman"/>
              </a:rPr>
              <a:t>turile </a:t>
            </a: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și Ocna Veche. Lacul Dul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994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330033"/>
                </a:solidFill>
                <a:latin typeface="Times New Roman"/>
              </a:rPr>
              <a:t>Ovidiu MERA</a:t>
            </a:r>
            <a:r>
              <a:rPr b="1" lang="en-US" sz="3400" spc="-1" strike="noStrike" baseline="30000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3400"/>
            </a:br>
            <a:r>
              <a:rPr b="1" lang="ro-RO" sz="3400" spc="-1" strike="noStrike">
                <a:solidFill>
                  <a:srgbClr val="330033"/>
                </a:solidFill>
                <a:latin typeface="Times New Roman"/>
              </a:rPr>
              <a:t>Dan Tiberiu MERA</a:t>
            </a:r>
            <a:r>
              <a:rPr b="1" lang="ro-RO" sz="3400" spc="-1" strike="noStrike" baseline="30000">
                <a:solidFill>
                  <a:srgbClr val="330033"/>
                </a:solidFill>
                <a:latin typeface="Times New Roman"/>
              </a:rPr>
              <a:t>1</a:t>
            </a:r>
            <a:br>
              <a:rPr sz="3400"/>
            </a:br>
            <a:r>
              <a:rPr b="1" lang="ro-RO" sz="3400" spc="-1" strike="noStrike">
                <a:solidFill>
                  <a:srgbClr val="330033"/>
                </a:solidFill>
                <a:latin typeface="Times New Roman"/>
              </a:rPr>
              <a:t>Livia BUNEA</a:t>
            </a:r>
            <a:r>
              <a:rPr b="1" lang="ro-RO" sz="3400" spc="-1" strike="noStrike" baseline="30000">
                <a:solidFill>
                  <a:srgbClr val="330033"/>
                </a:solidFill>
                <a:latin typeface="Times New Roman"/>
              </a:rPr>
              <a:t>2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5013360"/>
            <a:ext cx="8462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alin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Turda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401106, Strad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Salinelor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, nr. 54B,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 Turda,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baseline="30000">
                <a:solidFill>
                  <a:srgbClr val="000000"/>
                </a:solidFill>
                <a:latin typeface="Tahoma"/>
              </a:rPr>
              <a:t>2 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Compania de Apă Arieș, Strada Bogata, nr.1, Turda,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Localizar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lacuri</a:t>
            </a:r>
            <a:br>
              <a:rPr sz="4200"/>
            </a:b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 Băile Sărate Turda şi Valea Sărat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2" name="Object 18"/>
          <p:cNvGraphicFramePr/>
          <p:nvPr/>
        </p:nvGraphicFramePr>
        <p:xfrm>
          <a:off x="1460520" y="2932200"/>
          <a:ext cx="27176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932200"/>
                    <a:ext cx="27176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15" descr="turda(3)"/>
          <p:cNvPicPr/>
          <p:nvPr/>
        </p:nvPicPr>
        <p:blipFill>
          <a:blip r:embed="rId3"/>
          <a:stretch/>
        </p:blipFill>
        <p:spPr>
          <a:xfrm>
            <a:off x="611280" y="1557360"/>
            <a:ext cx="6048360" cy="5191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6588000" y="2106720"/>
            <a:ext cx="27370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uviu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pozite sarmaţie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ărătur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aje execut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rarea în salin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x de anticli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lunecări de 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4"/>
          <p:cNvSpPr/>
          <p:nvPr/>
        </p:nvSpPr>
        <p:spPr>
          <a:xfrm>
            <a:off x="1285920" y="4081320"/>
            <a:ext cx="81000" cy="61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378080" y="6480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66"/>
                </a:solidFill>
                <a:latin typeface="Times New Roman"/>
              </a:rPr>
              <a:t>Lacul Ci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SC01513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0f000"/>
                </a:solidFill>
                <a:latin typeface="Times New Roman"/>
              </a:rPr>
              <a:t>Lacul Dulce –Indicatori de calitate </a:t>
            </a:r>
            <a:br>
              <a:rPr sz="3600"/>
            </a:br>
            <a:r>
              <a:rPr b="0" lang="ro-RO" sz="3600" spc="-1" strike="noStrike">
                <a:solidFill>
                  <a:srgbClr val="f0f000"/>
                </a:solidFill>
                <a:latin typeface="Times New Roman"/>
              </a:rPr>
              <a:t>(iunie 2012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57160" y="1214280"/>
          <a:ext cx="7858080" cy="5405760"/>
        </p:xfrm>
        <a:graphic>
          <a:graphicData uri="http://schemas.openxmlformats.org/drawingml/2006/table">
            <a:tbl>
              <a:tblPr/>
              <a:tblGrid>
                <a:gridCol w="2664000"/>
                <a:gridCol w="1423800"/>
                <a:gridCol w="1230480"/>
                <a:gridCol w="1346040"/>
                <a:gridCol w="1193760"/>
              </a:tblGrid>
              <a:tr h="58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/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 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ăți de pH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IN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O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T - AZO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N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R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9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7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FOR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to-FOSF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P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R IONIC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IGEN dizol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O</a:t>
                      </a:r>
                      <a:r>
                        <a:rPr b="1" lang="ro-RO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6 / 15</a:t>
                      </a:r>
                      <a:r>
                        <a:rPr b="1" lang="ro-RO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6 / 14,5</a:t>
                      </a:r>
                      <a:r>
                        <a:rPr b="1" lang="ro-RO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8 / 14,5</a:t>
                      </a:r>
                      <a:r>
                        <a:rPr b="1" lang="ro-RO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CIT DE OX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</a:t>
                      </a:r>
                      <a:r>
                        <a:rPr b="1" lang="ro-RO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ZIDUU FILTRAT 105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6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CONCLUZ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24000" y="1484280"/>
            <a:ext cx="8534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tudiul readuce în atenție evoluția lacurilor hipersaline d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ria Turda din punct de vedere al anlizelor efectuate asupra parametrilor chimici ai ape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u toate că denumirea lacului care a făcut obiectul prezentului studiu este ”lacul Dulce” s-a constatat că acest lac are de fapt caractere care îl încadrează în categoria lacurilor hipersa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arametrii fizico-chimici ai apei lacului Dulce demonstrează că apa din lac, revine în scurt timp după o intervenție antropică majoră la o stratificare accentu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n acest proces de stratificare se conservă salinitatea si implicit calitățile terapeutice ale ap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200560" y="395280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4" descr="IMG_0756"/>
          <p:cNvPicPr/>
          <p:nvPr/>
        </p:nvPicPr>
        <p:blipFill>
          <a:blip r:embed="rId1"/>
          <a:stretch/>
        </p:blipFill>
        <p:spPr>
          <a:xfrm>
            <a:off x="-612720" y="-458640"/>
            <a:ext cx="10404360" cy="7802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556000" y="191628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Comic Sans MS"/>
              </a:rPr>
              <a:t>VĂ MULŢUMIM!</a:t>
            </a:r>
            <a:r>
              <a:rPr b="1" lang="ro-RO" sz="60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56:52Z</dcterms:created>
  <dc:creator>user</dc:creator>
  <dc:description/>
  <dc:language>en-US</dc:language>
  <cp:lastModifiedBy>Mera</cp:lastModifiedBy>
  <dcterms:modified xsi:type="dcterms:W3CDTF">2012-07-26T20:28:19Z</dcterms:modified>
  <cp:revision>199</cp:revision>
  <dc:subject/>
  <dc:title>Slide 1</dc:title>
</cp:coreProperties>
</file>