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1AA-9080-4DA5-BBE4-20B3F0D6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5F73-0793-4BBF-A60E-066C6EC8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A5E9-FC26-4538-9622-D40269E2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472-19C4-4740-91B2-5735409B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AE27-4666-4444-924F-A0AC30C7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9C4F-ECC4-49FF-88E9-4AF3F028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11D7-3ADE-4C30-A6F1-3C0647A2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D6E0-1B6D-4568-B6A0-1348BD55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F494-2F5A-43F9-80EB-4D6B2353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35BC-1A26-4BF0-8A78-A592383A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076C-772D-452E-9CE9-B8A9E62E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2F3-2AD4-445D-B54A-63AF0440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61B6-A79D-494C-B264-E1C7E330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D297-F6C8-4D42-8980-8EEB011C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3053-235D-41E0-8D0D-9B47B648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712A-789B-4BE4-84A6-85667B61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C0BA-47B0-4555-91D9-40B57DEC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56F-F418-489B-8BC5-4BCDBE29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3D0-B465-4E46-9706-5B45BE3F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404-5D5D-4087-9AD5-527157ED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7F9-8AD2-4DBE-8622-90D878B7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371-772D-4E55-91FE-51760D2B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4CE-5292-45F6-9931-F3566888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DD0-8024-4F6A-A493-441F880E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2F72-6872-411C-9F08-08CDE74558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AEBD-806A-4BAE-8007-C4733BC0FC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6" descr="IMAG0009"/>
          <p:cNvPicPr/>
          <p:nvPr/>
        </p:nvPicPr>
        <p:blipFill>
          <a:blip r:embed="rId1"/>
          <a:stretch/>
        </p:blipFill>
        <p:spPr>
          <a:xfrm>
            <a:off x="71280" y="34920"/>
            <a:ext cx="9001440" cy="6751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920" y="714240"/>
            <a:ext cx="878040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0f000"/>
                </a:solidFill>
                <a:latin typeface="Times New Roman"/>
              </a:rPr>
              <a:t>Lacuri antroposaline în </a:t>
            </a:r>
            <a:r>
              <a:rPr b="0" lang="en-US" sz="4800" spc="-1" strike="noStrike">
                <a:solidFill>
                  <a:srgbClr val="f0f000"/>
                </a:solidFill>
                <a:latin typeface="Times New Roman"/>
              </a:rPr>
              <a:t>Situl Natura 2000 S</a:t>
            </a:r>
            <a:r>
              <a:rPr b="0" lang="ro-RO" sz="4800" spc="-1" strike="noStrike">
                <a:solidFill>
                  <a:srgbClr val="f0f000"/>
                </a:solidFill>
                <a:latin typeface="Times New Roman"/>
              </a:rPr>
              <a:t>ă</a:t>
            </a:r>
            <a:r>
              <a:rPr b="0" lang="en-US" sz="4800" spc="-1" strike="noStrike">
                <a:solidFill>
                  <a:srgbClr val="f0f000"/>
                </a:solidFill>
                <a:latin typeface="Times New Roman"/>
              </a:rPr>
              <a:t>r</a:t>
            </a:r>
            <a:r>
              <a:rPr b="0" lang="ro-RO" sz="4800" spc="-1" strike="noStrike">
                <a:solidFill>
                  <a:srgbClr val="f0f000"/>
                </a:solidFill>
                <a:latin typeface="Times New Roman"/>
              </a:rPr>
              <a:t>ă</a:t>
            </a:r>
            <a:r>
              <a:rPr b="0" lang="en-US" sz="4800" spc="-1" strike="noStrike">
                <a:solidFill>
                  <a:srgbClr val="f0f000"/>
                </a:solidFill>
                <a:latin typeface="Times New Roman"/>
              </a:rPr>
              <a:t>turile </a:t>
            </a:r>
            <a:r>
              <a:rPr b="0" lang="ro-RO" sz="4800" spc="-1" strike="noStrike">
                <a:solidFill>
                  <a:srgbClr val="f0f000"/>
                </a:solidFill>
                <a:latin typeface="Times New Roman"/>
              </a:rPr>
              <a:t>și Ocna Veche. Lacul Dulc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2994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400" spc="-1" strike="noStrike">
                <a:solidFill>
                  <a:srgbClr val="330033"/>
                </a:solidFill>
                <a:latin typeface="Times New Roman"/>
              </a:rPr>
              <a:t>Ovidiu MERA</a:t>
            </a:r>
            <a:r>
              <a:rPr b="1" lang="en-US" sz="3400" spc="-1" strike="noStrike" baseline="30000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en-US" sz="3400" spc="-1" strike="noStrike">
                <a:solidFill>
                  <a:srgbClr val="330033"/>
                </a:solidFill>
                <a:latin typeface="Times New Roman"/>
              </a:rPr>
              <a:t>, </a:t>
            </a:r>
            <a:br>
              <a:rPr sz="3400"/>
            </a:br>
            <a:r>
              <a:rPr b="1" lang="ro-RO" sz="3400" spc="-1" strike="noStrike">
                <a:solidFill>
                  <a:srgbClr val="330033"/>
                </a:solidFill>
                <a:latin typeface="Times New Roman"/>
              </a:rPr>
              <a:t>Dan Tiberiu MERA</a:t>
            </a:r>
            <a:r>
              <a:rPr b="1" lang="ro-RO" sz="3400" spc="-1" strike="noStrike" baseline="30000">
                <a:solidFill>
                  <a:srgbClr val="330033"/>
                </a:solidFill>
                <a:latin typeface="Times New Roman"/>
              </a:rPr>
              <a:t>1</a:t>
            </a:r>
            <a:br>
              <a:rPr sz="3400"/>
            </a:br>
            <a:r>
              <a:rPr b="1" lang="ro-RO" sz="3400" spc="-1" strike="noStrike">
                <a:solidFill>
                  <a:srgbClr val="330033"/>
                </a:solidFill>
                <a:latin typeface="Times New Roman"/>
              </a:rPr>
              <a:t>Livia BUNEA</a:t>
            </a:r>
            <a:r>
              <a:rPr b="1" lang="ro-RO" sz="3400" spc="-1" strike="noStrike" baseline="30000">
                <a:solidFill>
                  <a:srgbClr val="330033"/>
                </a:solidFill>
                <a:latin typeface="Times New Roman"/>
              </a:rPr>
              <a:t>2</a:t>
            </a:r>
            <a:br>
              <a:rPr sz="3400"/>
            </a:b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24000" y="5013360"/>
            <a:ext cx="84628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alin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Tahoma"/>
              </a:rPr>
              <a:t>Turda</a:t>
            </a:r>
            <a:r>
              <a:rPr b="0" lang="ro-RO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ro-RO" sz="1800" spc="-1" strike="noStrike">
                <a:solidFill>
                  <a:srgbClr val="000000"/>
                </a:solidFill>
                <a:latin typeface="Tahoma"/>
              </a:rPr>
              <a:t>401106, Strada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Tahoma"/>
              </a:rPr>
              <a:t>Salinelor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, nr. 54B,</a:t>
            </a:r>
            <a:r>
              <a:rPr b="0" i="1" lang="ro-RO" sz="1800" spc="-1" strike="noStrike">
                <a:solidFill>
                  <a:srgbClr val="000000"/>
                </a:solidFill>
                <a:latin typeface="Tahoma"/>
              </a:rPr>
              <a:t> Turda, Româ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 baseline="30000">
                <a:solidFill>
                  <a:srgbClr val="000000"/>
                </a:solidFill>
                <a:latin typeface="Tahoma"/>
              </a:rPr>
              <a:t>2  </a:t>
            </a:r>
            <a:r>
              <a:rPr b="0" i="1" lang="ro-RO" sz="1800" spc="-1" strike="noStrike">
                <a:solidFill>
                  <a:srgbClr val="000000"/>
                </a:solidFill>
                <a:latin typeface="Tahoma"/>
              </a:rPr>
              <a:t>Compania de Apă Arieș, Strada Bogata, nr.1, Turda, Româ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Localizare</a:t>
            </a: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o-RO" sz="4200" spc="-1" strike="noStrike">
                <a:solidFill>
                  <a:srgbClr val="330033"/>
                </a:solidFill>
                <a:latin typeface="Times New Roman"/>
              </a:rPr>
              <a:t>lacuri</a:t>
            </a:r>
            <a:br>
              <a:rPr sz="4200"/>
            </a:b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 Băile Sărate Turda şi Valea Sărată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2" name="Object 18"/>
          <p:cNvGraphicFramePr/>
          <p:nvPr/>
        </p:nvGraphicFramePr>
        <p:xfrm>
          <a:off x="1460520" y="2932200"/>
          <a:ext cx="27176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2932200"/>
                    <a:ext cx="27176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Picture 15" descr="turda(3)"/>
          <p:cNvPicPr/>
          <p:nvPr/>
        </p:nvPicPr>
        <p:blipFill>
          <a:blip r:embed="rId3"/>
          <a:stretch/>
        </p:blipFill>
        <p:spPr>
          <a:xfrm>
            <a:off x="611280" y="1557360"/>
            <a:ext cx="6048360" cy="5191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6588000" y="2106720"/>
            <a:ext cx="273708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uviun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ra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pozite sarmaţie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ărătur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foraje execut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trarea în salin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x de anticlin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. alunecări de t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4"/>
          <p:cNvSpPr/>
          <p:nvPr/>
        </p:nvSpPr>
        <p:spPr>
          <a:xfrm>
            <a:off x="1285920" y="4081320"/>
            <a:ext cx="81000" cy="61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1378080" y="6480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66"/>
                </a:solidFill>
                <a:latin typeface="Times New Roman"/>
              </a:rPr>
              <a:t>Lacul Ci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DSC01513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0f000"/>
                </a:solidFill>
                <a:latin typeface="Times New Roman"/>
              </a:rPr>
              <a:t>Lacul Dulce –Indicatori de calitate </a:t>
            </a:r>
            <a:br>
              <a:rPr sz="3600"/>
            </a:br>
            <a:r>
              <a:rPr b="0" lang="ro-RO" sz="3600" spc="-1" strike="noStrike">
                <a:solidFill>
                  <a:srgbClr val="f0f000"/>
                </a:solidFill>
                <a:latin typeface="Times New Roman"/>
              </a:rPr>
              <a:t>(iunie 2012)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57160" y="1214280"/>
          <a:ext cx="7858080" cy="5405760"/>
        </p:xfrm>
        <a:graphic>
          <a:graphicData uri="http://schemas.openxmlformats.org/drawingml/2006/table">
            <a:tbl>
              <a:tblPr/>
              <a:tblGrid>
                <a:gridCol w="2664000"/>
                <a:gridCol w="1423800"/>
                <a:gridCol w="1230480"/>
                <a:gridCol w="1346040"/>
                <a:gridCol w="1193760"/>
              </a:tblGrid>
              <a:tr h="580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/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0 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,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ăți de pH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INI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Na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ONI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ZOT - AZO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N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3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RU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9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,7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SFOR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to-FOSF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P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ER IONIC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XIGEN dizolv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O</a:t>
                      </a:r>
                      <a:r>
                        <a:rPr b="1" lang="ro-RO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6 / 15</a:t>
                      </a:r>
                      <a:r>
                        <a:rPr b="1" lang="ro-RO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6 / 14,5</a:t>
                      </a:r>
                      <a:r>
                        <a:rPr b="1" lang="ro-RO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8 / 14,5</a:t>
                      </a:r>
                      <a:r>
                        <a:rPr b="1" lang="ro-RO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CIT DE OXI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</a:t>
                      </a:r>
                      <a:r>
                        <a:rPr b="1" lang="ro-RO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4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,9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ZIDUU FILTRAT 105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2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6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CONCLUZI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24000" y="1484280"/>
            <a:ext cx="8534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Studiul readuce în atenție evoluția lacurilor hipersaline d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ria Turda din punct de vedere al anlizelor efectuate asupra parametrilor chimici ai ape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u toate că denumirea lacului care a făcut obiectul prezentului studiu este ”lacul Dulce” s-a constatat că acest lac are de fapt caractere care îl încadrează în categoria lacurilor hipersal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arametrii fizico-chimici ai apei lacului Dulce demonstrează că apa din lac, revine în scurt timp după o intervenție antropică majoră la o stratificare accentuat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Prin acest proces de stratificare se conservă salinitatea si implicit calitățile terapeutice ale ape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200560" y="3952800"/>
            <a:ext cx="11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Picture 4" descr="IMG_0756"/>
          <p:cNvPicPr/>
          <p:nvPr/>
        </p:nvPicPr>
        <p:blipFill>
          <a:blip r:embed="rId1"/>
          <a:stretch/>
        </p:blipFill>
        <p:spPr>
          <a:xfrm>
            <a:off x="-612720" y="-458640"/>
            <a:ext cx="10404360" cy="7802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556000" y="191628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00"/>
                </a:solidFill>
                <a:latin typeface="Comic Sans MS"/>
              </a:rPr>
              <a:t>VĂ MULŢUMIM!</a:t>
            </a:r>
            <a:r>
              <a:rPr b="1" lang="ro-RO" sz="6000" spc="-1" strike="noStrike">
                <a:solidFill>
                  <a:srgbClr val="ff00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6:56:52Z</dcterms:created>
  <dc:creator>user</dc:creator>
  <dc:description/>
  <dc:language>en-US</dc:language>
  <cp:lastModifiedBy>Mera</cp:lastModifiedBy>
  <dcterms:modified xsi:type="dcterms:W3CDTF">2012-07-26T20:28:19Z</dcterms:modified>
  <cp:revision>199</cp:revision>
  <dc:subject/>
  <dc:title>Slide 1</dc:title>
</cp:coreProperties>
</file>